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612-9383-4938-83B3-C52741A5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370-D544-41C4-AAD2-123D499F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A9F-F0C7-4244-B08F-68F72B2A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592-DFD9-40C6-AE62-F29626A9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7790-8481-47BA-BDF1-53125117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3972-F660-45D3-9FD9-FBBB940E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853F-A812-43F3-B00C-711F209F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5D42-9ABA-4DEA-A986-9B687935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959A-DB2B-42E0-82C4-B8BFFDE7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F331-4B9F-4F49-ACD1-9205950F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C75B-125A-4289-B806-AA56B73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415-2DFC-4B3A-B635-7FEECFBD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7092-FFD4-4C31-B641-A6F1453E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8BB0-B52F-4CBE-A329-FDDCC3D4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CD87-4FD6-4556-809F-768B9E8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F064-66FD-44CC-AF20-85F764F8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CDF0-E15D-4B7D-A788-8FB3DD5F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1E66-22BC-45F9-8BDB-658EB2F1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7834-75A1-4A25-AC30-D285B172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6C86-3535-418E-B236-FB7492A1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756D-0F76-4574-A298-5F9E3E15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F367-4BA5-43B4-9970-D34E2C43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BC0-76F4-42CE-9433-0F451500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CA6C-0499-41CA-9A24-954DF477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BC95-3E30-4FAB-9122-1A25AD82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EE9D-8CBC-4BD1-B1BF-980178B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9683-A341-46F0-94CA-7CB5581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DA7B-03E1-4CA7-B872-BC15000D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A3AA-00A2-4A5D-BD06-9FE632C9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928C-81EF-407D-AC04-C3FB32CA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60590-B7A1-48CF-A210-F3192862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48CA-AF5D-4D7F-A40A-F6D65BE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8CCA5-2BCF-406A-912B-DAA08BEC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011-3783-4FD7-B357-B697D34D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088BA-46E4-4EF1-AC11-9EAE5CF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B572-CD0B-459B-A28A-CA1E8BAD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DB2F-4DE3-4945-BFD4-E9DDABB7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BBACD-EDEE-4934-B9D2-E553926D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90F6-31B1-46A9-BCC4-8BAAABAD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2E571-DFF9-4622-9ED4-E6DA466D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869C0-87DD-4050-A509-0F7333A6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1A32-7302-4932-850F-BC18899C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6DF7-7228-440C-95A2-FE9CB87C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917-8606-45AF-8B04-5D3CDF29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421-D9A9-4466-8E52-653B142D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E5F-B0D4-4ED3-848C-B31E97F7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13C-DC67-45E9-990D-38904A2A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8D0-A340-475C-B03B-B7FE7FDB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0818-490B-4AF2-A4E1-2B5352A56ED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3282-B8AB-4DFF-9B9F-F58DD57D729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D782-CA00-49A0-B77D-9DDC51D5460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1B49-C7C3-40DB-A0A2-8507228C9F9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Trebuchet MS"/>
                <a:cs typeface="Tahoma"/>
              </a:rPr>
              <a:t>الايمان والعلم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362320" y="5943240"/>
            <a:ext cx="3047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rebuchet MS"/>
                <a:ea typeface="Tahoma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800" spc="-1" strike="noStrike">
                <a:solidFill>
                  <a:srgbClr val="000099"/>
                </a:solidFill>
                <a:latin typeface="Trebuchet MS"/>
                <a:cs typeface="Tahoma"/>
              </a:rPr>
              <a:t>الاحساء-ملتقى القزاء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800" spc="-1" strike="noStrike">
                <a:solidFill>
                  <a:srgbClr val="000099"/>
                </a:solidFill>
                <a:latin typeface="Trebuchet MS"/>
                <a:ea typeface="Tahoma"/>
              </a:rPr>
              <a:t>1\</a:t>
            </a:r>
            <a:r>
              <a:rPr b="1" lang="ar-SA" sz="800" spc="-1" strike="noStrike">
                <a:solidFill>
                  <a:srgbClr val="000099"/>
                </a:solidFill>
                <a:latin typeface="Trebuchet MS"/>
                <a:cs typeface="Tahoma"/>
              </a:rPr>
              <a:t>مارس\</a:t>
            </a:r>
            <a:r>
              <a:rPr b="1" lang="ar-SA" sz="800" spc="-1" strike="noStrike">
                <a:solidFill>
                  <a:srgbClr val="000099"/>
                </a:solidFill>
                <a:latin typeface="Trebuchet MS"/>
                <a:ea typeface="Tahoma"/>
              </a:rPr>
              <a:t>2019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" y="6248520"/>
            <a:ext cx="1066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7f7f7f"/>
                </a:solidFill>
                <a:latin typeface="Trebuchet MS"/>
                <a:cs typeface="Tahoma"/>
              </a:rPr>
              <a:t>ثامر العيثا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كيفية نشوء وتطور الايمان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12189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ساس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ايمان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عقلي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و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وجداني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و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نقلي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بعد ذلك يتم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بنا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لى الايمان من خلال المعطيات الجديدة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ه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ُوَ الَّذِي أَنزَلَ السَّكِينَةَ فِي قُلُوبِ الْمُؤْمِنِينَ لِيَزْدَادُوا إِيمَانًا مَّعَ إِيمَانِهِمْ ۗ وَلِلَّهِ جُنُودُ السَّمَاوَاتِ وَالْأَرْضِ ۚ وَكَانَ اللَّهُ عَلِيمًا حَكِيمًا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[الجزء: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٢٦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| الفتح (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٤٨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)| الآية: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٤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]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كيفية نشوء وتطور الايمان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جوارح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موطن الاعمال المستند الى علم.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من الأمور التي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تزيد او تنقص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ايمان هو 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علم الجديد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سواء كان علما إيجابيا او سلبي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٢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والعمل به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سواء كان عملا إيجابيا او سلبي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بعض حدود الايم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2952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حكم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لى اي قضية إيمانية هو واحد من ثلاثة:-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ن العلم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يوافق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ايمان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ن العلم</a:t>
            </a:r>
            <a:r>
              <a:rPr b="1" lang="ar-SA" sz="2800" spc="-1" strike="noStrike">
                <a:solidFill>
                  <a:srgbClr val="00b0f0"/>
                </a:solidFill>
                <a:latin typeface="Trebuchet MS"/>
                <a:ea typeface="Tahoma"/>
              </a:rPr>
              <a:t> اليقيني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يناقض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فكرة الإيمانية ، وهنا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نؤل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فكرة الإيمانية 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ن العلم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لم يحسم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تناقض مع الايمان، حتى مع عدم الارتياح النفسي، هنا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نتوقف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ن الحكم الى اجل غير مسمى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بعض حدود الايم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371600"/>
            <a:ext cx="69343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إمكان العقلي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والخرافة:-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لايمكن ان نطلق العنان للايمان حتى مع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ea typeface="Tahoma"/>
              </a:rPr>
              <a:t> التناقض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العقلي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جمع </a:t>
            </a:r>
            <a:r>
              <a:rPr b="1" lang="ar-SA" sz="2400" spc="-1" strike="noStrike">
                <a:solidFill>
                  <a:srgbClr val="00b0f0"/>
                </a:solidFill>
                <a:latin typeface="Trebuchet MS"/>
                <a:cs typeface="Tahoma"/>
              </a:rPr>
              <a:t>الايمان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مع الإمكان </a:t>
            </a:r>
            <a:r>
              <a:rPr b="1" lang="ar-SA" sz="2400" spc="-1" strike="noStrike">
                <a:solidFill>
                  <a:srgbClr val="00b0f0"/>
                </a:solidFill>
                <a:latin typeface="Trebuchet MS"/>
                <a:cs typeface="Tahoma"/>
              </a:rPr>
              <a:t>العلمي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، قد يكون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خلاف المتعارف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, مثل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1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خارق للعادة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: يقره القران ويعطي حوادث كثيرة منه، لابراهيم وعيسى وموسى و....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خارق للعادة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هو ما لا يألفه الانسان عادة، ولكنه ليس مستحيلاً عقلا. اي ان الخارق للعادة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لا يتسبب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بتناقضات عقلية، وانما يأتي باعمال غير مألوفة، كعدم الحرق بالنا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بعض حدود الايم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إعجاز العلمي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مادي الذي لايكون ممن يحمل تناقضا فلسفيا،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ممك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قل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حدوثه يكون معتمدا على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توفر الظروف المعينة لحدوثه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. كعدم حرق النار لابراهيم( الان تم تصنيع ملابس واقية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بعض حدود الايم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إعجاز العلمي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مادي الذي لايكون ممن يحمل تناقضا فلسفيا،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ممك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قلا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إعجاز الذي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يحتوي على روح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فهذا أمره يكون بعالم اخر لانعرفه ولانستطيع الوصول اليه علمي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لحمد لله رب العالمي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والسلا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000099"/>
                </a:solidFill>
                <a:latin typeface="Trebuchet MS"/>
                <a:ea typeface="Tahoma"/>
              </a:rPr>
              <a:t>             </a:t>
            </a:r>
            <a:r>
              <a:rPr b="1" lang="ar-SA" sz="2900" spc="-1" strike="noStrike">
                <a:solidFill>
                  <a:srgbClr val="000099"/>
                </a:solidFill>
                <a:latin typeface="Trebuchet MS"/>
                <a:cs typeface="Tahoma"/>
              </a:rPr>
              <a:t>محاور المحاضرة</a:t>
            </a:r>
            <a:r>
              <a:rPr b="1" lang="ar-SA" sz="2900" spc="-1" strike="noStrike">
                <a:solidFill>
                  <a:srgbClr val="000099"/>
                </a:solidFill>
                <a:latin typeface="Trebuchet MS"/>
                <a:ea typeface="Tahoma"/>
              </a:rPr>
              <a:t>: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1143000"/>
            <a:ext cx="69343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ea typeface="Tahoma"/>
              </a:rPr>
              <a:t> 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الايمان ومفهومه الديني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كيفية نشوء وتطور الايمان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rebuchet MS"/>
                <a:ea typeface="Tahoma"/>
              </a:rPr>
              <a:t> بعض حدود الايمان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علم يكشف اسرار الكون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العلوم الاساسية هي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فيزياء، الاحياء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وربما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رياضيات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احياء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( سابقا الطب والدواء والخرافة، التقنيات الحيوية، .....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فيزياء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( سابقا الكيمياء، الجيولوجيا، الظواهر الطبيعية، التقنيات الالية، ....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له طبقات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، والفيزياء والاحياء هما الطبقة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واللبنة الاساسية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. وكل شيء مبني عليها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علم الاحيا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ساس الاحياء هو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خلية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كروموزومات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و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DNA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.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RNA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rebuchet MS"/>
              </a:rPr>
              <a:t>،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هي معروفة بدق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كثير عن لبنات الاحياء معروف الا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روح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(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لم يكتمل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فيزيا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جزيئات الاولية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قوى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تي تضبط الكون معروف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نعرف في الوقت الحاضر بشكل كلي الكثير من مفاهيم تركيب المادة من العناصر الى الاجرام الى النجوم الى كل شيء تقريب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لم يكتمل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رياضيات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منطق داخل الذهن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لا وجود حقيقي له بالخارج. هو آلة تحكم العمليات العقلية للوجود الخارجي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حتى الرياضيات معروفة بشكل كبير والتقدم فيها بطيء لتشبعه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(لم تكتمل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علوم الاخرى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علوم انسانية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علم الاجتماع, علم التاريخ، الفلسفة, المنطق...الخ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علوم اعتبارية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النحو, الادارة,الكمبيوتر, الصناعة...الخ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ايمان ومفهومه الدين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37160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ايما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من اختصاص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اديا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ويكون بما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وراء الغيب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ايمان : هو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والاعتقاد الجازم والالتزام بمقتضاه ( و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العمل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كما يروى عن الامام الصادق ع) 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علم بلا عمل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لا يعد إيما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وإنما عل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وَجَحَدُوا بِهَا وَاسْتَيْقَنَتْهَا أَنفُسُهُمْ ظُلْمًا وَعُلُوًّا ۚ فَانظُرْ كَيْفَ كَانَ عَاقِبَةُ الْمُفْسِدِينَ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[الجزء: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١٩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| النمل (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٢٧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)| الآية: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١٤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]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ايمان ومفهومه الدين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114300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 الايمان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علم وعمل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٢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نفاق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عمل بلا علم واعتقا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٣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علم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يشترك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به المؤم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و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 الكافر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الإيمان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يضعف ويقوى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ايمان بالله: وحدانيته وعبادته والخضوع له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ايمان بالرسول والإسلام والامامة والقران، كل اعتقاد له عمل بمقتضاه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3:53:06Z</dcterms:created>
  <dc:creator>Flera Rizatdinova</dc:creator>
  <dc:description/>
  <dc:language>en-US</dc:language>
  <cp:lastModifiedBy>Windows User</cp:lastModifiedBy>
  <dcterms:modified xsi:type="dcterms:W3CDTF">2019-02-28T21:21:12Z</dcterms:modified>
  <cp:revision>188</cp:revision>
  <dc:subject/>
  <dc:title>Basics of Particle Physics</dc:title>
</cp:coreProperties>
</file>